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4EA-AE6F-49C5-A92B-F1D49214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FF4-6BC2-4288-B18B-C108342E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6D44-7BA1-49CB-9265-32126017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90E4-8661-4BFC-9037-D39F3BF5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347A-7E08-4C14-B32A-38399797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F807-DE70-42EB-832C-13882517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EED6-A2B2-4CDE-B86F-25D2EB03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32D5-2B0A-4733-AC0E-A5F88FE1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FFE5-2719-45DF-923B-FFB4E369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88E2-BFE1-41BE-BDE7-130B6ACE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6CBE-8A83-48E2-A1B4-04C81D11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56EC-B186-44DA-B6A1-70FF9EE6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EEF0-6E25-4B72-9F35-4157016C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7EBB-58C9-4764-8B85-5CC58323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A1CF-42AE-4CFA-BFC4-3EEDAED8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75AE-F15B-4542-BEEA-736472B0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6620-44BC-437F-9481-8C111CCF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8B9-B120-47BE-9D1E-A3D75035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7D7-E6B0-4C4E-967C-4DC70C86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E95-317E-471F-991F-EDF3E14A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463-47D6-4099-8D49-4C081830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DF8-DE02-4381-8C88-BD27F068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9A4-4551-4EE8-8123-AB7C01E0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070-B11A-4DE4-A90A-7086395D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41E4-69D1-42FD-98B8-BE08A85CA9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19D7-57D3-48F6-9973-E29A7E65B32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MATT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Content Placeholder 11" descr="chem.jpg"/>
          <p:cNvPicPr/>
          <p:nvPr/>
        </p:nvPicPr>
        <p:blipFill>
          <a:blip r:embed="rId1"/>
          <a:stretch/>
        </p:blipFill>
        <p:spPr>
          <a:xfrm>
            <a:off x="2590920" y="2514600"/>
            <a:ext cx="502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omogeneous can be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x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t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onade mix (uniform in composition at the macro lev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a subst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l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g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Substances can be 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ahoma"/>
              </a:rPr>
              <a:t>Compou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Cl (sodium chlori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gluco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OH (sodium hydroxid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ahoma"/>
              </a:rPr>
              <a:t>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pper (C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balt (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ranium (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ium (H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eterogeneous matter is always a mixtu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 are combinations of substances and/or elements that can be separated by physical means- the identities of the components won’t chan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erogeneous mixtures are (to the naked eye for our purposes) uneven (layers or visible parts) in compos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ime to Play Element, Compound or Mixtu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t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monia g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monia dissolved in water (household ammon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ass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assium chlor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z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 karat g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umin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da (with ice and bubbles visi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he Answ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Salt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mmonia 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Ammonia dissolved in water (household ammon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Potassium chlor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iz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14 karat go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lumi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Soda (with ice and bubbles visi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24280" y="137160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Mixture (homogeneo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Mixture (homogeneo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Comp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ixture (heterogeneo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Mixture (homogeneo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Mixture (heterogeneo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onservation Law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( Law Of Conservation of Mass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Matter (Ma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ter is  not created or destroyed in ordinary chemical or physical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a reaction the total amount of starting material will equal the amount of materials produc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ahoma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ergy is not created or destroy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form of energy can be converted to an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electrical energ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ight or hea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- lots but whatever is conserved is not created or destroy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roper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al- properties (or characteristics) of a substance that can be observed or measured without changing the substance: (mass, density, color, melting poi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- describes the substance’s ability to react with other substances; can be determined only by a reaction which changes the substance; (flammability, corrosion resistance, explosiven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hang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- do not alter the identity of the substance (same stuff but a different for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 – chemical reactions which involve the formation of new substances from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Give-away wo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Physical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l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eez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po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li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us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ind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ahoma"/>
              </a:rPr>
              <a:t>Chemical Ch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c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rro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rme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t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ompo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z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he States of Matt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167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qu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s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sold,liquid,gas micro and macro"/>
          <p:cNvPicPr/>
          <p:nvPr/>
        </p:nvPicPr>
        <p:blipFill>
          <a:blip r:embed="rId1"/>
          <a:stretch/>
        </p:blipFill>
        <p:spPr>
          <a:xfrm>
            <a:off x="3124080" y="1447920"/>
            <a:ext cx="6019920" cy="37335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3276720" y="5562720"/>
            <a:ext cx="5486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State of matter that is so hot that all atoms have broken into charged particles (we’ll run into this in our nuclear chapte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hat is Matter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mas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s up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e might ordinarily think of as “stuff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s not matter then it is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roperties of solids, liquids and ga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04920" y="1981080"/>
          <a:ext cx="8762760" cy="4953240"/>
        </p:xfrm>
        <a:graphic>
          <a:graphicData uri="http://schemas.openxmlformats.org/drawingml/2006/table">
            <a:tbl>
              <a:tblPr/>
              <a:tblGrid>
                <a:gridCol w="1143000"/>
                <a:gridCol w="1752480"/>
                <a:gridCol w="1752480"/>
                <a:gridCol w="2210040"/>
                <a:gridCol w="190476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66"/>
                          </a:solidFill>
                          <a:uFillTx/>
                          <a:latin typeface="Tahoma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66"/>
                          </a:solidFill>
                          <a:uFillTx/>
                          <a:latin typeface="Tahoma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66"/>
                          </a:solidFill>
                          <a:uFillTx/>
                          <a:latin typeface="Tahoma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66"/>
                          </a:solidFill>
                          <a:uFillTx/>
                          <a:latin typeface="Tahoma"/>
                        </a:rPr>
                        <a:t>Compressi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66"/>
                          </a:solidFill>
                          <a:uFillTx/>
                          <a:latin typeface="Tahoma"/>
                        </a:rPr>
                        <a:t>Organiz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ol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Incompre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Highl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Organiz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Liqu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Incompre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Less organiz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ompre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Disorganiz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hase Chang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ed as a change from one state of matter (solid, liquid, gas) to an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has a name that you should kn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hase Chang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Picture 4" descr="phase changes triangle"/>
          <p:cNvPicPr/>
          <p:nvPr/>
        </p:nvPicPr>
        <p:blipFill>
          <a:blip r:embed="rId1"/>
          <a:stretch/>
        </p:blipFill>
        <p:spPr>
          <a:xfrm>
            <a:off x="685800" y="1390680"/>
            <a:ext cx="7848720" cy="5467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4038480" y="1219320"/>
            <a:ext cx="403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Blue arrows- energy has to g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into the substance (endothermi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Red arrows- energy is releas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from the substance (exothermi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How can we organize information about matter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Picture 4" descr="matter flowchart1"/>
          <p:cNvPicPr/>
          <p:nvPr/>
        </p:nvPicPr>
        <p:blipFill>
          <a:blip r:embed="rId1"/>
          <a:stretch/>
        </p:blipFill>
        <p:spPr>
          <a:xfrm>
            <a:off x="1066680" y="1254240"/>
            <a:ext cx="678204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A different loo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Picture 4" descr="matterflowchart2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Notice that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types of changes can be used to separate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changes separate mixtures into their components (par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 changes (reactions) separate compounds into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omogeneous or heterogeneou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geneous materials have the same composition throughou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r in the roo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genized milk (how do they do that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tures can be homogeneous (then they are called solu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ances (elements or compounds) are homogeneous as we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top, bottom, middle are the same it is homogen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omogeneous or heterogeneous, cont’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erogeneous mixtures have different composition (make up) at different pa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it is in layers or has definite parts or zones it is heterogeneous (salad, pizza, soil) then it is heterogene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omogeneous or heterogeneou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dy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t water (all dissolv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ece of sil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in of sa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ful of beach s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41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terogen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gen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gen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gen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terogen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terogene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last one confusing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hat about that last one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the eye it is homogeneo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om in and you’ll s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d cells, white cells, platele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 it depends (a favorite answer of mine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le of thumb- “macro” applies 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- either answer with a logical reason behind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blood cells"/>
          <p:cNvPicPr/>
          <p:nvPr/>
        </p:nvPicPr>
        <p:blipFill>
          <a:blip r:embed="rId1"/>
          <a:stretch/>
        </p:blipFill>
        <p:spPr>
          <a:xfrm>
            <a:off x="990720" y="1905120"/>
            <a:ext cx="3352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23:49:18Z</dcterms:created>
  <dc:creator> </dc:creator>
  <dc:description/>
  <dc:language>en-US</dc:language>
  <cp:lastModifiedBy>asalla</cp:lastModifiedBy>
  <dcterms:modified xsi:type="dcterms:W3CDTF">2009-09-14T00:36:00Z</dcterms:modified>
  <cp:revision>20</cp:revision>
  <dc:subject/>
  <dc:title>MATTER</dc:title>
</cp:coreProperties>
</file>